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halkboar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B8D0-BEF5-4B99-9373-E53EFADD79B3}" type="datetime">
              <a:rPr b="0" lang="en-US" sz="1200" spc="-1" strike="noStrike">
                <a:solidFill>
                  <a:srgbClr val="ffffff"/>
                </a:solidFill>
                <a:latin typeface="Chalkboard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halkboar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0C08-D89F-4067-9CCD-A5242BE89E28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EA03-6BB9-4C62-8C2F-A3837176586B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A755-47F5-4474-8E4B-24105C646E9C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88840" y="3657600"/>
            <a:ext cx="7366320" cy="1028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7000"/>
          </a:bodyPr>
          <a:p>
            <a:pPr marL="126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26720" indent="-126720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26720" indent="-126720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26720" indent="-126720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26720" indent="-12672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26720" indent="-12672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26720" indent="-12672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88840" y="180288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88840" y="2069640"/>
            <a:ext cx="359424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8888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82116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2" marL="114408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3" marL="148608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4" marL="183816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5" marL="183816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6" marL="183816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346360" y="2069640"/>
            <a:ext cx="290844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1000"/>
          </a:bodyPr>
          <a:p>
            <a:pPr marL="450720" indent="-22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57080" indent="-22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2" marL="1054800" indent="-22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3" marL="1370520" indent="-22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4" marL="1694880" indent="-22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5" marL="1694880" indent="-22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6" marL="1694880" indent="-22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888840" y="749160"/>
            <a:ext cx="7366320" cy="5359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1280" indent="-315720">
              <a:spcBef>
                <a:spcPts val="40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012680" indent="-315720">
              <a:spcBef>
                <a:spcPts val="40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402200" indent="-315360">
              <a:spcBef>
                <a:spcPts val="40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815840" indent="-315720">
              <a:spcBef>
                <a:spcPts val="40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2241000" indent="-315720">
              <a:spcBef>
                <a:spcPts val="40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2241000" indent="-315720">
              <a:spcBef>
                <a:spcPts val="40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2241000" indent="-315720">
              <a:spcBef>
                <a:spcPts val="40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5000"/>
          </a:bodyPr>
          <a:p>
            <a:pPr marL="624240" indent="-32256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034280" indent="-32256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432440" indent="-32220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854720" indent="-32256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2289240" indent="-32256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2289240" indent="-32256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2289240" indent="-32256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8840" y="5181120"/>
            <a:ext cx="7366320" cy="12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88840" y="2540160"/>
            <a:ext cx="7366320" cy="177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418680" y="3479760"/>
            <a:ext cx="4241880" cy="2146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marL="3052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305280" indent="-305280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2" marL="305280" indent="-305280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3" marL="305280" indent="-305280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4" marL="305280" indent="-30528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5" marL="305280" indent="-30528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6" marL="305280" indent="-30528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18680" y="1257120"/>
            <a:ext cx="4241880" cy="2145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88840" y="2069640"/>
            <a:ext cx="359424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8888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82116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2" marL="114408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3" marL="148608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4" marL="183816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5" marL="183816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6" marL="183816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35040" indent="-3175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1066680" indent="-3175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2" marL="1486080" indent="-3175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3" marL="1930320" indent="-3175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4" marL="2387520" indent="-3175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5" marL="2387520" indent="-3175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6" marL="2387520" indent="-3175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88840" y="180288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NA and Protein Synthesi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88840" y="3657600"/>
            <a:ext cx="7366320" cy="1028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r. Cob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GCA Fall 2011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3659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If you are looking at: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5160" indent="-342720"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A strand of bases and you are told to identify them as DNA or RNA,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42720"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IF you see Uracil, you will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that it is RNA!!!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WHY TALK ABOUT PROTEIN SYNTHESIS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-360" y="2070000"/>
            <a:ext cx="899172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ELL FUNCTIONS DEPEND ON ENZYMES (BIOLOGICAL CATALYST), WHICH ARE PROTEINS!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OST SUBSTANCES MADE BY CELLS CONTAIN A PROTEI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DERSTANDING THIS PROCESS, SCIENTISTS CAN MAKE CHANGES TO WHAT PROTEINS ARE PRODUCED (ANTIBIOTIC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PROTEIN REVIEW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LYPEPTIDE CHAINS OF AMINO ACIDS (AA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21 AMINO ACID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2 THINGS MUST BE CORRECT FOR PROTEIN TO BE FUNCTIONA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1.  SEQUENCE OF AA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2.  SHAP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PROTEIN SYNTHESIS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CELL CAN MAKE THOUSANDS OF DIFFERENT PROTEIN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CELL CAN MAKE THOUSANDS OF THE SAME PROTEI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PROTEIN SYNTHESIS STEPS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2 STEPS to making Proteins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08900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STEP 1 TRANSCRIPTION:  Getting the information from the DNA copied onto a mRNA stran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08900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STEP 2 TRANSLATION:  The mRNA strand goes out to a ribosome and builds a AA strand with the help of tRNA.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Protein Synthesis in a nutshell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751040" y="1370160"/>
            <a:ext cx="5487840" cy="54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Here’s a better look: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THE CODE OF LIFE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MPARE TO ALPHABE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DNA’S CODE IS THE 4 NUCLEOTIDE BASES OF ADENINE, GUANINE, CYTOSINE, AND THYMIN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THREE OF THESE BASES COME TOGETHER TO MAKE A CODE FOR AN AMINO ACI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THE CODE OF LIFE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BASES MAKE A CODON. 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8900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(THINK OF IT AS A 3 LETTER WORD MEANING A SPECIFIC AMINO ACID)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CODON CODES FOR A SPECIFIC AA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THE CODE OF LIFE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206964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650520" indent="-3362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OMPARE TO THE ALPHABET CODE WE DISCUSSED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077840" indent="-3362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X.  THE DOG CAN R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0520" indent="-3362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ACH LETTER IS A NUCLEOTIDE BASE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0520" indent="-3362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ACH THREE LETTER WORD IS A CODON THAT CODES FOR A SPECIFIC AMINO ACID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0520" indent="-3362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STRING OF AMINO ACIDS MAKE A FUNCTIONAL PROTEIN, JUST LIKE A STRING OF WORDS MAKE A SENTENCE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8840" y="180288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0" name="Content Placeholder 5" descr="3549_1600x1200-wallpaper-cb1267712038.jpg"/>
          <p:cNvPicPr/>
          <p:nvPr/>
        </p:nvPicPr>
        <p:blipFill>
          <a:blip r:embed="rId1"/>
          <a:srcRect l="-9132" t="0" r="-9132" b="0"/>
          <a:stretch/>
        </p:blipFill>
        <p:spPr>
          <a:xfrm>
            <a:off x="-828720" y="0"/>
            <a:ext cx="10734840" cy="734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THE CODE OF LIFE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365960" cy="478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ETS SEE WHY THE SEQUENCE IS IMPORTANT!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RUN CAN DOG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NE AMINO ACID CHANGE CAN CHANGE THE PROTEIN, JUST LIKE ONE WORD CAN CHANGE THE SENTENCE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CAT CAN R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DOG CAN SIT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DOG CAN HOP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7" dur="20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2" dur="20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200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20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200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17320" y="152280"/>
            <a:ext cx="6350040" cy="1067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Amino Acid Char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 vert="eaVer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02" name="Picture 5" descr="C:\Documents and Settings\jcobb\Desktop\imgres.png"/>
          <p:cNvPicPr/>
          <p:nvPr/>
        </p:nvPicPr>
        <p:blipFill>
          <a:blip r:embed="rId1"/>
          <a:stretch/>
        </p:blipFill>
        <p:spPr>
          <a:xfrm>
            <a:off x="-609480" y="1066680"/>
            <a:ext cx="10591560" cy="59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2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Amino Acids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-152640" y="1371600"/>
            <a:ext cx="9296280" cy="5486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re are 21 Amino Acids, but as you can see 64 combination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o, there are multiple codons per amino acid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lso “stop” and “start” codon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3 kinds of RNA: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Ribosomal RNA (rRNA) –makes up ribosomes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essenger RNA (mRNA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ransfer RNA (tRNA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7542360" y="3657600"/>
            <a:ext cx="380880" cy="379440"/>
          </a:xfrm>
          <a:custGeom>
            <a:avLst/>
            <a:gdLst>
              <a:gd name="textAreaLeft" fmla="*/ 0 w 380880"/>
              <a:gd name="textAreaRight" fmla="*/ 381240 w 38088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381000" h="379413">
                <a:moveTo>
                  <a:pt x="0" y="144923"/>
                </a:moveTo>
                <a:lnTo>
                  <a:pt x="145530" y="144924"/>
                </a:lnTo>
                <a:lnTo>
                  <a:pt x="190500" y="0"/>
                </a:lnTo>
                <a:lnTo>
                  <a:pt x="235470" y="144924"/>
                </a:lnTo>
                <a:lnTo>
                  <a:pt x="381000" y="144923"/>
                </a:lnTo>
                <a:lnTo>
                  <a:pt x="263263" y="234489"/>
                </a:lnTo>
                <a:lnTo>
                  <a:pt x="308235" y="379412"/>
                </a:lnTo>
                <a:lnTo>
                  <a:pt x="190500" y="289844"/>
                </a:lnTo>
                <a:lnTo>
                  <a:pt x="72765" y="379412"/>
                </a:lnTo>
                <a:lnTo>
                  <a:pt x="117737" y="234489"/>
                </a:lnTo>
                <a:lnTo>
                  <a:pt x="0" y="144923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6856560" y="4495680"/>
            <a:ext cx="380880" cy="379440"/>
          </a:xfrm>
          <a:custGeom>
            <a:avLst/>
            <a:gdLst>
              <a:gd name="textAreaLeft" fmla="*/ 0 w 380880"/>
              <a:gd name="textAreaRight" fmla="*/ 381240 w 38088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381000" h="379413">
                <a:moveTo>
                  <a:pt x="0" y="144923"/>
                </a:moveTo>
                <a:lnTo>
                  <a:pt x="145530" y="144924"/>
                </a:lnTo>
                <a:lnTo>
                  <a:pt x="190500" y="0"/>
                </a:lnTo>
                <a:lnTo>
                  <a:pt x="235470" y="144924"/>
                </a:lnTo>
                <a:lnTo>
                  <a:pt x="381000" y="144923"/>
                </a:lnTo>
                <a:lnTo>
                  <a:pt x="263263" y="234489"/>
                </a:lnTo>
                <a:lnTo>
                  <a:pt x="308235" y="379412"/>
                </a:lnTo>
                <a:lnTo>
                  <a:pt x="190500" y="289844"/>
                </a:lnTo>
                <a:lnTo>
                  <a:pt x="72765" y="379412"/>
                </a:lnTo>
                <a:lnTo>
                  <a:pt x="117737" y="234489"/>
                </a:lnTo>
                <a:lnTo>
                  <a:pt x="0" y="144923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Why do we need RNA?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RNA is the key mechanism behind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OTEIN SYNTHESI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Your characteristics are determined largely by the kinds of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ins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your cells make out of amino acid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PROTEIN SYNTHESIS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are proteins made?  What organelle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are ribosomes located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are the directions for making proteins found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6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1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6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OK, if the directions are in the nucleus, but the ribosomes are in the cytoplasm or on the E.R., 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How do the directions get to the ribosomes????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That’s why we ne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messenger RNA (mRNA)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8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mRNA is made in a process calle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CRIPTION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80000"/>
              </a:lnSpc>
              <a:spcBef>
                <a:spcPts val="2100"/>
              </a:spcBef>
              <a:buClr>
                <a:srgbClr val="ffffff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cription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“the process of copying the DNA code onto a strand of mRNA”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80000"/>
              </a:lnSpc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-scribe” means “write” so the code is copied or written onto mRNA during tran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on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mRNA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Is made from a DNA strand pattern.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DNA “unzips” just the section that codes the directions for the needed protein.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RNA nucleotides come in and bind with the DNA nitrogen bas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So, </a:t>
            </a:r>
            <a:r>
              <a:rPr b="1" i="1" lang="en-US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nscription</a:t>
            </a: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 is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riting” the mRNA code from a strand of DNA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ccurs in the nucleus so the message can be sent from DNA to the ribosom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NA never leaves nucleu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88840" y="180288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888840" y="3657600"/>
            <a:ext cx="7366320" cy="1028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BestAnimalsPhotosForTheYear20102_12.jpg"/>
          <p:cNvPicPr/>
          <p:nvPr/>
        </p:nvPicPr>
        <p:blipFill>
          <a:blip r:embed="rId2"/>
          <a:stretch/>
        </p:blipFill>
        <p:spPr>
          <a:xfrm>
            <a:off x="-533520" y="0"/>
            <a:ext cx="10336320" cy="72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ool facts about mRNA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RNA has a “cap” on one end and a Poly A tail on the other end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re are parts that are not used caused “introns” that are edited out before the mRNA gets to the ribosomes. 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“exons” are the parts that are not edited out and thus used to make the protei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Here’s a better look: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Now that we have our message,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mRNA can move through the nuclear pores to go to ribosom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Ribosomes will “read” the mRNA to build a protein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mRNA moves to ribosome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mRNA is read 3 letters at a time—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don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o, in our example, the first codon would be </a:t>
            </a:r>
            <a:r>
              <a:rPr b="0" lang="en-US" sz="3200" spc="-1" strike="noStrike">
                <a:solidFill>
                  <a:srgbClr val="33cc33"/>
                </a:solidFill>
                <a:latin typeface="Chalkboard"/>
              </a:rPr>
              <a:t>GUA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dons become important in the next step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When mRNA gets to the ribosome: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third kind of RNA comes into pla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ransfer RNA (tRNA)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ice the 3-letter anticodon &amp; amino aci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4"/>
          <a:stretch/>
        </p:blipFill>
        <p:spPr>
          <a:xfrm>
            <a:off x="4800600" y="1981080"/>
            <a:ext cx="415116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TRANSLATION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RNA is read in codons (3 letters at a time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 tRNA anticodon matches up with the mRNA codon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RNA has an amino acid attached at the top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e your amino acid char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nslation</a:t>
            </a: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 is: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alkboard"/>
              </a:rPr>
              <a:t>The process of synthesizing amino acids into proteins with the aid of RNA </a:t>
            </a:r>
            <a:endParaRPr b="0" lang="en-US" sz="5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8001000" cy="632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Protein Synthesis in a nutshell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1751040" y="1370160"/>
            <a:ext cx="5487840" cy="54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Translation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(this is not in the notes)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mRNA brings the DNA blueprints (plans) to the cytoplasm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rRNA (ribosomes) bind to the mRNA. This is the construction site, where we build the protei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tRNA brings the materials (Amino Acids) to the construction site (ribosomes). 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88840" y="180288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888840" y="3657600"/>
            <a:ext cx="7366320" cy="10288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P200812191416345171491583.jpg"/>
          <p:cNvPicPr/>
          <p:nvPr/>
        </p:nvPicPr>
        <p:blipFill>
          <a:blip r:embed="rId2"/>
          <a:stretch/>
        </p:blipFill>
        <p:spPr>
          <a:xfrm>
            <a:off x="-533520" y="0"/>
            <a:ext cx="10337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88840" y="152280"/>
            <a:ext cx="736632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Metabolism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etabolism is the sum of all of life’s processes of an organism.  For example:  You take energy in and you expend energy by life’s activitie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Young people have higher metabolism than adults because of the processes of growing. 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lants use less energy during the night because they are not doing photosynthesis.  So, a plant’s metabolism is higher during the da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hich one has higher metabolism? 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thlete versus video gamer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88840" y="152280"/>
            <a:ext cx="7366320" cy="99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Anabolism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6000"/>
          </a:bodyPr>
          <a:p>
            <a:pPr marL="630720" indent="-326160">
              <a:spcBef>
                <a:spcPts val="2100"/>
              </a:spcBef>
              <a:buClr>
                <a:srgbClr val="ff0000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Anabolism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is the building of molecules and storing energy.  What is one example of this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30720" indent="-326160">
              <a:spcBef>
                <a:spcPts val="2100"/>
              </a:spcBef>
              <a:buClr>
                <a:srgbClr val="ff0000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Catabolism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is processes that break molecules down to release energy.  What is one example of this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We are finished!!!!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Test is on Monday!!!!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365960" cy="99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alkboard"/>
              </a:rPr>
              <a:t>Review DNA</a:t>
            </a:r>
            <a:endParaRPr b="0" lang="en-US" sz="5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04920" y="1447920"/>
            <a:ext cx="825480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51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hat is a nucleotide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hat shape does DNA have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hat are the nitrogen bases in DNA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here do you find DNA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365960" cy="99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Review DNA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5160" indent="-342720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at is a nucleotide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285840"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ugar, phosphate, and bas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4272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at shape does DNA have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285840"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Double Helix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42720"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at are the nitrogen bases in DNA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285840"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DENINE, THYMINE, GUANINE AND CYTOSIN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42720"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re do you find DNA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285840"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U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3659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BASE PAIRING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DENINE – THYMINE (URACIL IN RNA)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UANINE – CYTOSINE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– 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 – C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LWAYS!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Complete the DNA strand: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TextBox 4"/>
          <p:cNvSpPr/>
          <p:nvPr/>
        </p:nvSpPr>
        <p:spPr>
          <a:xfrm>
            <a:off x="1190520" y="1447920"/>
            <a:ext cx="127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TextBox 5"/>
          <p:cNvSpPr/>
          <p:nvPr/>
        </p:nvSpPr>
        <p:spPr>
          <a:xfrm>
            <a:off x="5727600" y="1447920"/>
            <a:ext cx="1239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 –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RNA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5160" indent="-34272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Ribonucleic Aci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42720"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ntains Ribose as its 5-carbon sugar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42720"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ngle strand-not double helix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42720"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itrogen Bases are A, C, G, and U (Uracil)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42720"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ymin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n RNA!!!!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0:49:08Z</dcterms:created>
  <dc:creator>Tami D. Russell</dc:creator>
  <dc:description/>
  <cp:keywords/>
  <dc:language>en-US</dc:language>
  <cp:lastModifiedBy>jcobb</cp:lastModifiedBy>
  <cp:lastPrinted>2011-11-28T02:35:11Z</cp:lastPrinted>
  <dcterms:modified xsi:type="dcterms:W3CDTF">2011-12-01T20:16:28Z</dcterms:modified>
  <cp:revision>16</cp:revision>
  <dc:subject/>
  <dc:title>RNA and Protein Synthesis</dc:title>
</cp:coreProperties>
</file>